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A650-01BF-4872-80D2-FFF1C8CB1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98EB-D4E7-4AFC-994C-CB4012042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45A2-F5EC-4F02-B9CE-3EA196EFE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F74A-3FAD-4816-817A-6BE56CF6D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60F6-583F-4E31-AED9-C382D53A6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C36A-2221-45CC-8F4D-63C7B4462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DC4F-1C22-4BBE-838B-62C12523B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E885-C987-40E7-A9B1-DBEA0B71B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4148-3902-407D-9430-8B398316A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347A-14C3-41B9-BFFF-72CF5D508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D96D-0EA8-4801-84CB-831AB10DB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12E8-0F3D-4192-BB0D-269983A66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F673F-AB86-4C22-B39E-15303F14FF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s://sites.google.com/site/studentcbaexample/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sinauer.com/groom/article.php?id=21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st Benefit Analy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655308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a decision making to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ad Presley, Julie Westgard, Louis Avd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4" descr="&#10;hammer.gif                                                     00031A5A&#9;CDPIII HD                      BBA37F10:"/>
          <p:cNvPicPr/>
          <p:nvPr/>
        </p:nvPicPr>
        <p:blipFill>
          <a:blip r:embed="rId1"/>
          <a:stretch/>
        </p:blipFill>
        <p:spPr>
          <a:xfrm>
            <a:off x="3809880" y="914400"/>
            <a:ext cx="1447920" cy="12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nef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good parts to an op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measured in dolla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nefits in the distant future are not as valuable as benefits to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4" descr="_x001c_dollar-sign-in-lightbulb.jpg                                   00031A5A&#9;CDPIII HD                      BBA37F10:"/>
          <p:cNvPicPr/>
          <p:nvPr/>
        </p:nvPicPr>
        <p:blipFill>
          <a:blip r:embed="rId1"/>
          <a:stretch/>
        </p:blipFill>
        <p:spPr>
          <a:xfrm>
            <a:off x="5486400" y="2666880"/>
            <a:ext cx="1905120" cy="1685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_x001c_dollar-sign-in-lightbulb.jpg                                   00031A5A&#9;CDPIII HD                      BBA37F10:"/>
          <p:cNvPicPr/>
          <p:nvPr/>
        </p:nvPicPr>
        <p:blipFill>
          <a:blip r:embed="rId2"/>
          <a:stretch/>
        </p:blipFill>
        <p:spPr>
          <a:xfrm>
            <a:off x="5562720" y="5029200"/>
            <a:ext cx="819000" cy="819000"/>
          </a:xfrm>
          <a:prstGeom prst="rect">
            <a:avLst/>
          </a:prstGeom>
          <a:ln w="0">
            <a:noFill/>
          </a:ln>
        </p:spPr>
      </p:pic>
      <p:sp>
        <p:nvSpPr>
          <p:cNvPr id="95" name="Text Box 6"/>
          <p:cNvSpPr/>
          <p:nvPr/>
        </p:nvSpPr>
        <p:spPr>
          <a:xfrm>
            <a:off x="7315200" y="655308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uis Avd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on Benef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nefits to anyone are counted in a public CB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s of Benef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gher w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jo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joy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ucational opportun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pr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4952880" y="3809880"/>
            <a:ext cx="3429000" cy="26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tter edu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er a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garbag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lection f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7" descr="&#13;clean air.jpg                                                  00031A5A&#9;CDPIII HD                      BBA37F10:"/>
          <p:cNvPicPr/>
          <p:nvPr/>
        </p:nvPicPr>
        <p:blipFill>
          <a:blip r:embed="rId1"/>
          <a:stretch/>
        </p:blipFill>
        <p:spPr>
          <a:xfrm>
            <a:off x="0" y="0"/>
            <a:ext cx="2514600" cy="25146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8"/>
          <p:cNvSpPr/>
          <p:nvPr/>
        </p:nvSpPr>
        <p:spPr>
          <a:xfrm>
            <a:off x="7315200" y="655308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uis Avd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ounting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counting helps us determine and compare  the value of costs and benefits incurred today and in the distant fut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e Value of Mon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4" descr="_x000e_time-money.jpg                                                 00031A5A&#9;CDPIII HD                      BBA37F10:"/>
          <p:cNvPicPr/>
          <p:nvPr/>
        </p:nvPicPr>
        <p:blipFill>
          <a:blip r:embed="rId1"/>
          <a:stretch/>
        </p:blipFill>
        <p:spPr>
          <a:xfrm>
            <a:off x="3048120" y="4800600"/>
            <a:ext cx="2666880" cy="176688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5"/>
          <p:cNvSpPr/>
          <p:nvPr/>
        </p:nvSpPr>
        <p:spPr>
          <a:xfrm>
            <a:off x="830160" y="616572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445320" y="6323040"/>
            <a:ext cx="139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ulie Westga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on Discoun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ney today is more valuable than money tomo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uld you lend me $100.00 today if I paid you $100.00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omorro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uld you lend me $100.00 today if I paid you $100.00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en year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4" descr="_x000b_images.jpeg                                                    00031A5A&#9;CDPIII HD                      BBA37F10:"/>
          <p:cNvPicPr/>
          <p:nvPr/>
        </p:nvPicPr>
        <p:blipFill>
          <a:blip r:embed="rId1"/>
          <a:stretch/>
        </p:blipFill>
        <p:spPr>
          <a:xfrm>
            <a:off x="5943600" y="4800600"/>
            <a:ext cx="2576520" cy="188928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5"/>
          <p:cNvSpPr/>
          <p:nvPr/>
        </p:nvSpPr>
        <p:spPr>
          <a:xfrm>
            <a:off x="445320" y="6323040"/>
            <a:ext cx="139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ulie Westga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sign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a CBA of your ow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 a website reporting your findings. Example websi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ttps://sites.google.com/site/studentcbaexample/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Questions to consider for reflec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ould your group make a recommendation based on your conclusions if a committee overseeing the decision-making process were to approach you for your opinio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uld you have come to the same conclusions in your CBA without performing a CB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re there any options that you did not pursue that would have been valuable in your analysis, and would it have been better to include more options in your CB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o Consider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are decisions mad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tools and strategies are used to figure out consequences for a particular decis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es every decision have positive and negative consequenc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5" descr="&#10;Scales.GIF                                                     00031A5A&#9;CDPIII HD                      BBA37F10:"/>
          <p:cNvPicPr/>
          <p:nvPr/>
        </p:nvPicPr>
        <p:blipFill>
          <a:blip r:embed="rId1"/>
          <a:stretch/>
        </p:blipFill>
        <p:spPr>
          <a:xfrm>
            <a:off x="5486400" y="4191120"/>
            <a:ext cx="3124080" cy="2528640"/>
          </a:xfrm>
          <a:prstGeom prst="rect">
            <a:avLst/>
          </a:prstGeom>
          <a:ln w="0">
            <a:noFill/>
          </a:ln>
        </p:spPr>
      </p:pic>
      <p:sp>
        <p:nvSpPr>
          <p:cNvPr id="47" name="Text Box 6"/>
          <p:cNvSpPr/>
          <p:nvPr/>
        </p:nvSpPr>
        <p:spPr>
          <a:xfrm>
            <a:off x="1066680" y="4419720"/>
            <a:ext cx="37339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1143000" y="4329000"/>
            <a:ext cx="3429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ample: Should the school year be extended by two  week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itive : more time for learnin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gative: requires more money; less vaca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522000" y="6246720"/>
            <a:ext cx="1448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rles Presl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ision makers: individuals, governments, corporations, and social institu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ld a positive consequence be a negative consequence for another pers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all political decisions affect everyone the sa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do we compare consequences in our decision-making proces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445680" y="6246720"/>
            <a:ext cx="1448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rles Presl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7" descr="http://www.savagechickens.com/images/chickendecisions.jpg"/>
          <p:cNvPicPr/>
          <p:nvPr/>
        </p:nvPicPr>
        <p:blipFill>
          <a:blip r:embed="rId1"/>
          <a:stretch/>
        </p:blipFill>
        <p:spPr>
          <a:xfrm>
            <a:off x="2971800" y="4038480"/>
            <a:ext cx="283356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net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etization is the process of converting something of value into dollars”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ttp://www.sinauer.com/groom/article.php?id=2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4" descr="&#9;apple.jpg                                                      00031A5A&#9;CDPIII HD                      BBA37F10:"/>
          <p:cNvPicPr/>
          <p:nvPr/>
        </p:nvPicPr>
        <p:blipFill>
          <a:blip r:embed="rId2"/>
          <a:stretch/>
        </p:blipFill>
        <p:spPr>
          <a:xfrm>
            <a:off x="990720" y="3429000"/>
            <a:ext cx="2514600" cy="25146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5"/>
          <p:cNvSpPr/>
          <p:nvPr/>
        </p:nvSpPr>
        <p:spPr>
          <a:xfrm>
            <a:off x="4253400" y="4227480"/>
            <a:ext cx="653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6" descr="&#13;images-2.jpeg                                                  00031A5A&#9;CDPIII HD                      BBA37F10:"/>
          <p:cNvPicPr/>
          <p:nvPr/>
        </p:nvPicPr>
        <p:blipFill>
          <a:blip r:embed="rId3"/>
          <a:stretch/>
        </p:blipFill>
        <p:spPr>
          <a:xfrm>
            <a:off x="5486400" y="3657600"/>
            <a:ext cx="1936800" cy="2089080"/>
          </a:xfrm>
          <a:prstGeom prst="rect">
            <a:avLst/>
          </a:prstGeom>
          <a:ln w="0">
            <a:noFill/>
          </a:ln>
        </p:spPr>
      </p:pic>
      <p:sp>
        <p:nvSpPr>
          <p:cNvPr id="59" name="Text Box 7"/>
          <p:cNvSpPr/>
          <p:nvPr/>
        </p:nvSpPr>
        <p:spPr>
          <a:xfrm>
            <a:off x="445320" y="6323040"/>
            <a:ext cx="139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ulie Westga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on Monet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45720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we make a decision, we must put a dollar value on the positive and negative consequences of that dec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 we have a basis for compari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5" descr="_x000c_sandlot1.jpg                                                   00031A5A&#9;CDPIII HD                      BBA37F10:"/>
          <p:cNvPicPr/>
          <p:nvPr/>
        </p:nvPicPr>
        <p:blipFill>
          <a:blip r:embed="rId1"/>
          <a:stretch/>
        </p:blipFill>
        <p:spPr>
          <a:xfrm>
            <a:off x="5181480" y="1219320"/>
            <a:ext cx="2590920" cy="1941480"/>
          </a:xfrm>
          <a:prstGeom prst="rect">
            <a:avLst/>
          </a:prstGeom>
          <a:ln w="0">
            <a:noFill/>
          </a:ln>
        </p:spPr>
      </p:pic>
      <p:sp>
        <p:nvSpPr>
          <p:cNvPr id="63" name="Text Box 6"/>
          <p:cNvSpPr/>
          <p:nvPr/>
        </p:nvSpPr>
        <p:spPr>
          <a:xfrm>
            <a:off x="6248520" y="304812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7" descr="_x0014_Community_garden.jpg                                           00031A5A&#9;CDPIII HD                      BBA37F10:"/>
          <p:cNvPicPr/>
          <p:nvPr/>
        </p:nvPicPr>
        <p:blipFill>
          <a:blip r:embed="rId2"/>
          <a:stretch/>
        </p:blipFill>
        <p:spPr>
          <a:xfrm>
            <a:off x="5410080" y="5105520"/>
            <a:ext cx="2233800" cy="15080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9" descr="&#9;otc-1.jpg                                                      00031A5A&#9;CDPIII HD                      BBA37F10:"/>
          <p:cNvPicPr/>
          <p:nvPr/>
        </p:nvPicPr>
        <p:blipFill>
          <a:blip r:embed="rId3"/>
          <a:stretch/>
        </p:blipFill>
        <p:spPr>
          <a:xfrm>
            <a:off x="5410080" y="3505320"/>
            <a:ext cx="2217960" cy="1065240"/>
          </a:xfrm>
          <a:prstGeom prst="rect">
            <a:avLst/>
          </a:prstGeom>
          <a:ln w="0">
            <a:noFill/>
          </a:ln>
        </p:spPr>
      </p:pic>
      <p:sp>
        <p:nvSpPr>
          <p:cNvPr id="66" name="Text Box 10"/>
          <p:cNvSpPr/>
          <p:nvPr/>
        </p:nvSpPr>
        <p:spPr>
          <a:xfrm>
            <a:off x="6249960" y="449568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11"/>
          <p:cNvSpPr/>
          <p:nvPr/>
        </p:nvSpPr>
        <p:spPr>
          <a:xfrm>
            <a:off x="445320" y="6323040"/>
            <a:ext cx="139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ulie Westga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rsuing Op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BA compares different courses of action to each o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 option should always be the status qu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4" descr="&#10;Bolts2.JPG                                                     00031A5A&#9;CDPIII HD                      BBA37F10:"/>
          <p:cNvPicPr/>
          <p:nvPr/>
        </p:nvPicPr>
        <p:blipFill>
          <a:blip r:embed="rId1"/>
          <a:stretch/>
        </p:blipFill>
        <p:spPr>
          <a:xfrm>
            <a:off x="380880" y="4267080"/>
            <a:ext cx="1722600" cy="17733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_x000c_nasBolts.jpg                                                   00031A5A&#9;CDPIII HD                      BBA37F10:"/>
          <p:cNvPicPr/>
          <p:nvPr/>
        </p:nvPicPr>
        <p:blipFill>
          <a:blip r:embed="rId2"/>
          <a:stretch/>
        </p:blipFill>
        <p:spPr>
          <a:xfrm>
            <a:off x="2971800" y="4267080"/>
            <a:ext cx="2428920" cy="1764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_x000b_images.jpeg                                                    00031A5A&#9;CDPIII HD                      BBA37F10:"/>
          <p:cNvPicPr/>
          <p:nvPr/>
        </p:nvPicPr>
        <p:blipFill>
          <a:blip r:embed="rId3"/>
          <a:stretch/>
        </p:blipFill>
        <p:spPr>
          <a:xfrm>
            <a:off x="6629400" y="4267080"/>
            <a:ext cx="1981080" cy="1687680"/>
          </a:xfrm>
          <a:prstGeom prst="rect">
            <a:avLst/>
          </a:prstGeom>
          <a:ln w="0">
            <a:noFill/>
          </a:ln>
        </p:spPr>
      </p:pic>
      <p:sp>
        <p:nvSpPr>
          <p:cNvPr id="73" name="Text Box 7"/>
          <p:cNvSpPr/>
          <p:nvPr/>
        </p:nvSpPr>
        <p:spPr>
          <a:xfrm>
            <a:off x="2286000" y="4876920"/>
            <a:ext cx="914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5791320" y="4876920"/>
            <a:ext cx="914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9"/>
          <p:cNvSpPr/>
          <p:nvPr/>
        </p:nvSpPr>
        <p:spPr>
          <a:xfrm>
            <a:off x="597960" y="6323040"/>
            <a:ext cx="1448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rles Presl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s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441972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rawbacks to each op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easured in dolla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Need to consider both upfront costs and negative impacts down the roa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4" descr="_x001d_Dollar-sign-cropped-(web).jpg                                  00031A5A&#9;CDPIII HD                      BBA37F10:"/>
          <p:cNvPicPr/>
          <p:nvPr/>
        </p:nvPicPr>
        <p:blipFill>
          <a:blip r:embed="rId1"/>
          <a:stretch/>
        </p:blipFill>
        <p:spPr>
          <a:xfrm>
            <a:off x="5105520" y="2057400"/>
            <a:ext cx="3657600" cy="3227400"/>
          </a:xfrm>
          <a:prstGeom prst="rect">
            <a:avLst/>
          </a:prstGeom>
          <a:ln w="0">
            <a:noFill/>
          </a:ln>
        </p:spPr>
      </p:pic>
      <p:sp>
        <p:nvSpPr>
          <p:cNvPr id="79" name="Text Box 9"/>
          <p:cNvSpPr/>
          <p:nvPr/>
        </p:nvSpPr>
        <p:spPr>
          <a:xfrm>
            <a:off x="7086600" y="640080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uis Avd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on Cos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at is given up to pursue an option? (opportunity costs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sts in the distant future are not as bad as costs incurred toda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sts suffered by anyone are counted in a public CB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_x000e_polar_bear.jpg                                                 00031A5A&#9;CDPIII HD                      BBA37F10:"/>
          <p:cNvPicPr/>
          <p:nvPr/>
        </p:nvPicPr>
        <p:blipFill>
          <a:blip r:embed="rId1"/>
          <a:stretch/>
        </p:blipFill>
        <p:spPr>
          <a:xfrm>
            <a:off x="6324480" y="0"/>
            <a:ext cx="2300400" cy="1981080"/>
          </a:xfrm>
          <a:prstGeom prst="rect">
            <a:avLst/>
          </a:prstGeom>
          <a:ln w="0">
            <a:noFill/>
          </a:ln>
        </p:spPr>
      </p:pic>
      <p:sp>
        <p:nvSpPr>
          <p:cNvPr id="83" name="Text Box 5"/>
          <p:cNvSpPr/>
          <p:nvPr/>
        </p:nvSpPr>
        <p:spPr>
          <a:xfrm>
            <a:off x="7315200" y="655308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uis Avd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re 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Co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 of Cos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eri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ment/concre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lthcare for work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vironmental mitig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5" descr="_x001e_boreal_clearcut-copyright1.jpg                                 00031A5A&#9;CDPIII HD                      BBA37F10:"/>
          <p:cNvPicPr/>
          <p:nvPr/>
        </p:nvPicPr>
        <p:blipFill>
          <a:blip r:embed="rId1"/>
          <a:stretch/>
        </p:blipFill>
        <p:spPr>
          <a:xfrm>
            <a:off x="5638680" y="228600"/>
            <a:ext cx="3159360" cy="21556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&#13;images-1.jpeg                                                  00031A5A&#9;CDPIII HD                      BBA37F10:"/>
          <p:cNvPicPr/>
          <p:nvPr/>
        </p:nvPicPr>
        <p:blipFill>
          <a:blip r:embed="rId2"/>
          <a:stretch/>
        </p:blipFill>
        <p:spPr>
          <a:xfrm>
            <a:off x="685800" y="152280"/>
            <a:ext cx="2819520" cy="223704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724280" y="3809520"/>
            <a:ext cx="381024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x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juries on the j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ss of habit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duced produc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d greenhouse g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9"/>
          <p:cNvSpPr/>
          <p:nvPr/>
        </p:nvSpPr>
        <p:spPr>
          <a:xfrm>
            <a:off x="7315200" y="655308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uis Avd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10"/>
          <p:cNvSpPr/>
          <p:nvPr/>
        </p:nvSpPr>
        <p:spPr>
          <a:xfrm>
            <a:off x="7316640" y="655632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uis Avd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7T02:13:44Z</dcterms:created>
  <dc:creator>Trial User</dc:creator>
  <dc:description/>
  <dc:language>en-US</dc:language>
  <cp:lastModifiedBy>profile</cp:lastModifiedBy>
  <dcterms:modified xsi:type="dcterms:W3CDTF">2010-08-17T20:17:19Z</dcterms:modified>
  <cp:revision>9</cp:revision>
  <dc:subject/>
  <dc:title>Cost Benefit Analysis</dc:title>
</cp:coreProperties>
</file>